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jpeg" ContentType="image/jpeg"/>
  <Override PartName="/ppt/media/image9.jpeg" ContentType="image/jpe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jpeg" ContentType="image/jpeg"/>
  <Override PartName="/ppt/media/image2.png" ContentType="image/png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BF3CF-5548-4CAC-8839-8B9ED0BCAD61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http://www.lehrer-online.de/786159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C9E2-23F5-4946-81BC-2955D912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F4E-6A3D-4030-B379-51C338D30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106D-B4C0-44AC-9B52-47C89F13F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8A10-BB90-42DC-98C6-002A37475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7299-6872-426A-B96F-AB40D9420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B436-FC37-4AD6-8052-F8BE24F0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423B-991D-4DFC-8966-45481FF1A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E46F5-93D4-46DD-AB27-34FD1CD4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7560-3D8D-4C44-95BF-A845C63D2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F45-D947-4733-BB67-EAC2A2B3A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508B-C48A-433A-B630-9D359C5E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4398-0B66-416B-9839-F37DF2A6C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F9B-C2A4-43B5-A523-56CE73F78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rbitalmodell im gymnasialen Chemieunterri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opsis der Unterrichtseinhe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457200" y="1600200"/>
          <a:ext cx="8229600" cy="4591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utung der Wellenfunk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24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 Born (192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echnung der Aufenthaltswahrscheinlichkeit des Elektrons aus der Wellenfunk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bitalbeg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4" name="Picture 5" descr="MaxBorncrop"/>
          <p:cNvPicPr/>
          <p:nvPr/>
        </p:nvPicPr>
        <p:blipFill>
          <a:blip r:embed="rId1"/>
          <a:stretch/>
        </p:blipFill>
        <p:spPr>
          <a:xfrm>
            <a:off x="1763640" y="2276640"/>
            <a:ext cx="1497240" cy="2158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003640" y="2492280"/>
            <a:ext cx="3238560" cy="1535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57200" y="1600200"/>
          <a:ext cx="8229600" cy="4498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setzung der Orbitale mit Elektron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34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fbauprinzi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ieprinzi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uli-Prinzip (Spin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undsche Regel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07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1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Schalen, Unterschalen, Kreuzung der Unterschalen (3d/4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u 2:</a:t>
                      </a:r>
                      <a:r>
                        <a:rPr b="0" lang="de-CH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Doppelbesetzung der Wolk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llständige Herleitung des Periodensystems einschliesslich der Nebengruppenelemen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„Geisterstunde“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580000" y="2389320"/>
            <a:ext cx="2065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I. Perioden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486080" y="1484280"/>
            <a:ext cx="617220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reuversuch von</a:t>
                      </a:r>
                      <a:r>
                        <a:rPr b="0" lang="de-CH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Rutherford (191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rn-Hüllen-Mod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5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iderspruch zum Coulomb-Geset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42960" y="2347920"/>
            <a:ext cx="3749760" cy="21607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861080" y="2529000"/>
            <a:ext cx="3527280" cy="1798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onisierungsenerg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027080" y="2421000"/>
            <a:ext cx="2962440" cy="2160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45561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60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lam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alenmodell von N. Bohr (191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: Flamenfarben, Linienspektr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Beschreibende Erklärung (a poste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57800" y="2349360"/>
            <a:ext cx="2698920" cy="215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_change_the_color_of_candle_flame"/>
          <p:cNvPicPr/>
          <p:nvPr/>
        </p:nvPicPr>
        <p:blipFill>
          <a:blip r:embed="rId2"/>
          <a:stretch/>
        </p:blipFill>
        <p:spPr>
          <a:xfrm>
            <a:off x="1042920" y="2349360"/>
            <a:ext cx="2684520" cy="215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. Vorgeschich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7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urgeset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schärfebeziehung von W. Heisenberg (192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Bohrsche Atommodell widerspricht der Unschärfebezie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46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Was nun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1403280" y="2349360"/>
            <a:ext cx="2173320" cy="2160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heisenberg_klein"/>
          <p:cNvPicPr/>
          <p:nvPr/>
        </p:nvPicPr>
        <p:blipFill>
          <a:blip r:embed="rId2"/>
          <a:stretch/>
        </p:blipFill>
        <p:spPr>
          <a:xfrm>
            <a:off x="5435640" y="2349360"/>
            <a:ext cx="2263680" cy="2159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457200" y="1600200"/>
          <a:ext cx="8229600" cy="4484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hersage/Experi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7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charakter des Elektrons (19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en/Teilchen-Dualism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: Beugung der Elektronenwell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chlüsselerkenntnis bei der Herleitung des Orbitalmodel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" name="Picture 5" descr="elektron_interferenz"/>
          <p:cNvPicPr/>
          <p:nvPr/>
        </p:nvPicPr>
        <p:blipFill>
          <a:blip r:embed="rId1"/>
          <a:stretch/>
        </p:blipFill>
        <p:spPr>
          <a:xfrm>
            <a:off x="1116000" y="2349360"/>
            <a:ext cx="2757600" cy="2160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escher sky &amp; water I"/>
          <p:cNvPicPr/>
          <p:nvPr/>
        </p:nvPicPr>
        <p:blipFill>
          <a:blip r:embed="rId2"/>
          <a:stretch/>
        </p:blipFill>
        <p:spPr>
          <a:xfrm>
            <a:off x="5508720" y="2349360"/>
            <a:ext cx="2198520" cy="216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8229600" cy="46404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hematische Beschreibu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74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hrödingersche Wellengleichu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raussage aller atomaren Erscheinungen wird prinzipiell mögli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sserordentlich gute Übereinstimmung mit experimentellen Dat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2" name="Picture 5" descr="schroedinger-1000"/>
          <p:cNvPicPr/>
          <p:nvPr/>
        </p:nvPicPr>
        <p:blipFill>
          <a:blip r:embed="rId1"/>
          <a:stretch/>
        </p:blipFill>
        <p:spPr>
          <a:xfrm>
            <a:off x="1066680" y="2565360"/>
            <a:ext cx="2835360" cy="14400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5" descr="spec-neon"/>
          <p:cNvPicPr/>
          <p:nvPr/>
        </p:nvPicPr>
        <p:blipFill>
          <a:blip r:embed="rId2"/>
          <a:stretch/>
        </p:blipFill>
        <p:spPr>
          <a:xfrm>
            <a:off x="5003640" y="2708280"/>
            <a:ext cx="3238560" cy="26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57200" y="1600200"/>
          <a:ext cx="8229600" cy="44132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alogi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45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sind durch die Anziehung zum Kern eingesper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ingesperrte Wellen in der Musi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Versuche mit Gummi- und Kunststoffschläuch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ur bestimmte Zustände sind möglich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47720" y="2457360"/>
            <a:ext cx="3527280" cy="1798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rcRect l="0" t="0" r="30900" b="0"/>
          <a:stretch/>
        </p:blipFill>
        <p:spPr>
          <a:xfrm>
            <a:off x="5524560" y="2276640"/>
            <a:ext cx="211932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dc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I. Orbitalmod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606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geru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252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ektronen in Atomen können als dreidimensionale stehende Wellen beschrieben we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s diskrete Verhalten der Elektronen in Atomen folgt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ne zusätzliche Annahmen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aus dem Wellencharakter des Elektr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Kausale Erklärung (a prior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99"/>
                      </a:solidFill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276640"/>
            <a:ext cx="2138400" cy="2158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5391000" y="2276640"/>
            <a:ext cx="2454480" cy="216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ipscher ZK 201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07:51:22Z</dcterms:created>
  <dc:creator>Juraj</dc:creator>
  <dc:description/>
  <dc:language>en-US</dc:language>
  <cp:lastModifiedBy>Juraj</cp:lastModifiedBy>
  <dcterms:modified xsi:type="dcterms:W3CDTF">2012-10-08T11:39:44Z</dcterms:modified>
  <cp:revision>29</cp:revision>
  <dc:subject/>
  <dc:title>Orbitalmodell im gymnasialen Chemieunterricht</dc:title>
</cp:coreProperties>
</file>